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3F9-92A7-4EF5-8997-B68E379F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B98-7B82-4F69-B23D-522337A3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EF3-47CB-4D78-96B6-18B3982E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FD9-65FB-4B77-9549-F37D2CFE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AE96-F36D-4C67-B99C-1DDDE3DA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5B8A-E240-4507-B448-84578854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EAD0-C390-4D84-A356-FCF99D1B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B1D3-69C6-4B61-9307-F5C1393D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2C35-274E-49BA-A3AA-9B066B4B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1219-506B-4CC2-80D2-534868B2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4E49-873B-4A5C-8719-8034F29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708A-EFC7-4BCA-8526-69E3403A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2322-FE33-48D3-9C54-295F153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4B07-4C05-4165-9F60-9F2105E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8655-CD01-4A04-8DF4-9F8366EB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8B8B-EE16-4285-B244-23023A57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EAF4-A76A-4A79-B3E6-A56EAE39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D6C6-87BF-4BC3-8EB2-C9A07D90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1F92-E8E0-4A7C-99F0-7115EBC5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4ED2-6FEA-4B4B-B184-50EFD13C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7C7B5-A233-4D69-B126-D115C5A9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1895D-636D-4DA9-AC29-47F2BC32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C99-8DA3-41A2-BC13-2A9E67B5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4DFE4-C720-4CF3-82A7-E87842AF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8DC9-C25D-4AB3-B15D-8B7B3CD0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3409-49B5-472D-B486-62B26016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BAD7-08BF-44AE-B3C1-86780707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FEAF-F445-4FB9-9628-7FF69688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0FB0-4589-46F5-B548-D526F972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6684-85F5-4575-BE99-1045208A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8BA2-9D71-40BA-B1ED-92E84567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20FF-8706-45E7-BBA5-607039BF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29ECE-5656-4A64-AAD5-4DEF3E61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A41-F132-4A7C-99B2-608B774C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89A6-170F-4472-834A-E444933D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E1941-72C6-44F4-931D-38E0519E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9CD6-1DB9-4085-8707-DF4D5693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C2F3-6D7E-46CB-8872-F8E3CAC3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238DD-5B08-42FA-BF9C-7AFE9F6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CFE3-2FFE-47FC-AAB7-9523DB38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2F837-8075-4BEA-BE6D-2C1D6DA0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C4260-768F-4DA1-9790-0B4C822F2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4C3A3-32DA-4D51-96E1-AD606552D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EB5E-22E7-472F-AE86-3E5028A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10F-9A75-4E29-9E6D-A5AE701B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5231-D383-45CD-A46A-A811AB68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FEF-61BE-467B-BE35-8C0FB41E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5DB-C7BA-4BFC-BAC4-A7D0C5E7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0DDE-F44F-4DB2-B27C-604130E2B23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0C3D-33B9-499B-A5D4-31511C7C83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0897-1D21-4168-9A73-FB1A72EC5B9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8A5A-AED9-4DC4-982C-7F0492D5182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6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By caleb trussell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ustralian Sunrise"/>
              </a:rPr>
              <a:t>Companies/cost /sh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IFC capital trust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Fannie Mae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Wal-mart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Lexmark international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Microsoft corp.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Sirius xm radio i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Dell i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Apple in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Banks of Amer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Georgia gulf corp.</a:t>
            </a: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3.33/ 300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.10/909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51.71/19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7.15/58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23.67/4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.68/1470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4.55/68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66.33/6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17.39/57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nstantia"/>
              </a:rPr>
              <a:t>32.79/30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Australian Sunrise"/>
              </a:rPr>
              <a:t>Money spent on each sha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IFC capital trust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Fannie MA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Wal-mart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Lexmark international 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Microsoft corp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Sirius xm radio inc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Dell inc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Apple inc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Bank of America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ff"/>
                </a:solidFill>
                <a:latin typeface="Constantia"/>
              </a:rPr>
              <a:t>Georgia gulf corp.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7960" y="1920600"/>
            <a:ext cx="38098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9.99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10005.6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10031.7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8.45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88.7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9.4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1001047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79.8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99.25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Constantia"/>
              </a:rPr>
              <a:t>9968.16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ff"/>
                </a:solidFill>
                <a:latin typeface="Australian Sunrise"/>
              </a:rPr>
              <a:t>what I sold my shares for/5 trades/sold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IFC capital trust 27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Fannie Mae  1.6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Wal-mart 50.38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Lexmark international21.2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Microsoft corp. 25.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Sirius xm radio inc 6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Apple inc 173.7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Bank of America 16.9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Georgia gulf corp. 29.0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E bay 23.81/23.8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Coach inc 31.85/32.35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New market 88.65/93.9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Medivation 27.06/27.06 aeropostale inc 42.69/43.5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ff"/>
                </a:solidFill>
                <a:latin typeface="Australian Sunrise"/>
              </a:rPr>
              <a:t>Capital gain/or lo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E bay -1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oach inc .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New market 5.28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Medivation 1.39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Aeropostale inc .88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IFC capital trust -.6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Wal-mart -1.3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Sirius xm radio -.3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Bank of America -.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Georgia gulf corp.-3.76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              </a:t>
            </a: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TOTAL=1.62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onstantia"/>
              </a:rPr>
              <a:t>Capital gain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30592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Rectangle 5" descr=""/>
          <p:cNvPicPr/>
          <p:nvPr/>
        </p:nvPicPr>
        <p:blipFill>
          <a:blip r:embed="rId1"/>
          <a:stretch/>
        </p:blipFill>
        <p:spPr>
          <a:xfrm>
            <a:off x="1365120" y="2530440"/>
            <a:ext cx="5883480" cy="1139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C:\Users\roberts2\AppData\Local\Microsoft\Windows\Temporary Internet Files\Content.IE5\3USGQSA4\MPj04422940000[1].jpg"/>
          <p:cNvPicPr/>
          <p:nvPr/>
        </p:nvPicPr>
        <p:blipFill>
          <a:blip r:embed="rId2"/>
          <a:stretch/>
        </p:blipFill>
        <p:spPr>
          <a:xfrm>
            <a:off x="509760" y="3429000"/>
            <a:ext cx="8024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2:42:27Z</dcterms:created>
  <dc:creator>roberts2</dc:creator>
  <dc:description/>
  <dc:language>en-US</dc:language>
  <cp:lastModifiedBy>roberts2</cp:lastModifiedBy>
  <dcterms:modified xsi:type="dcterms:W3CDTF">2009-09-24T23:53:29Z</dcterms:modified>
  <cp:revision>8</cp:revision>
  <dc:subject/>
  <dc:title>Slide 1</dc:title>
</cp:coreProperties>
</file>